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6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823080" y="662940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Level 3 , Rev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47440" y="640080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Repair Optimization Support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82480" y="64911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14480" y="642924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809640" y="125280"/>
            <a:ext cx="411120" cy="749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y.motorola.com/" TargetMode="External"/><Relationship Id="rId2" Type="http://schemas.openxmlformats.org/officeDocument/2006/relationships/hyperlink" Target="https://my.motorola.com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ompass.mot.com/doc/316951268/SER_SWT_Equipment_Standardization.doc" TargetMode="External"/><Relationship Id="rId2" Type="http://schemas.openxmlformats.org/officeDocument/2006/relationships/hyperlink" Target="http://compass.mot.com/doc/316951268/SER_SWT_Equipment_Standardization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line-shop.ams-fl.com/" TargetMode="External"/><Relationship Id="rId2" Type="http://schemas.openxmlformats.org/officeDocument/2006/relationships/hyperlink" Target="http://www.online-shop.ams-fl.com/" TargetMode="External"/><Relationship Id="rId3" Type="http://schemas.openxmlformats.org/officeDocument/2006/relationships/hyperlink" Target="http://www.online-shop.ams-fl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0169" r="46538" b="0"/>
          <a:stretch/>
        </p:blipFill>
        <p:spPr>
          <a:xfrm>
            <a:off x="438120" y="1325520"/>
            <a:ext cx="4114800" cy="471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5920" y="27082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l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62400" y="1028880"/>
            <a:ext cx="272916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911320" y="0"/>
            <a:ext cx="3670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ower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23960" y="920880"/>
          <a:ext cx="698040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920880"/>
                    <a:ext cx="698040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99960" y="483408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48340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-1800" y="453240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Click for full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911320" y="0"/>
            <a:ext cx="3670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Main Chip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4640" y="1120680"/>
            <a:ext cx="77724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8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 End 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GSM PA, Filter, Antenna Swit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100 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ceiver 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LNA, Mixer, IF, VCO´s , Exciter, Synthesizer ,Control, B-B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301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xternal 4 stage LNA used for 3G ba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401, U421, U440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TS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Single Stage Amplifier for the UMTS B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1000 BaseBand Processor – OMAP 3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B Control, DSP, USB , Codec, USIM, Micro SD, ………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1501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 Processor Memory (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512MB Nand Flash, 256MB DD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2400 Power Management IC – TI CPCAP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174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Regulators, Charger, Clocks, USB, RTC, SIM Level Shift, …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4990 Microphone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5300 Backlight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4360" y="1073160"/>
            <a:ext cx="777240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5310 EL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backlight for QWER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5320 Camera Flash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6000 Tranceicer 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WiFI, Bluetooth, FM Stereo Recei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6400 GPS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8010 Magne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Electronic Compass)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8020 Acceler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or G-Sens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9800" y="-15840"/>
            <a:ext cx="3670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Main Chip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27440" y="0"/>
            <a:ext cx="3301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8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775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440" y="825480"/>
            <a:ext cx="8845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Power Amplifier, GSMK/EDGE Quad-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46320" y="1222200"/>
            <a:ext cx="491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ual line-up power amplifier for GSMK/EDGE (8P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PI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wer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rmonic fil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tenna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6160" y="2622600"/>
            <a:ext cx="5603760" cy="3732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1676520" y="1390320"/>
            <a:ext cx="2333520" cy="2057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933720" y="2390400"/>
            <a:ext cx="123840" cy="1857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562200" y="2152440"/>
            <a:ext cx="486000" cy="1228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048120" y="1847880"/>
            <a:ext cx="1047600" cy="179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28640" y="1647720"/>
            <a:ext cx="2448000" cy="2648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19240" y="885960"/>
            <a:ext cx="5205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Multiband UMTS, WCDMA/EDGE XC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79760" y="0"/>
            <a:ext cx="5045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1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MARTi PMB5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6040" y="1185840"/>
            <a:ext cx="3327480" cy="5202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14840" y="1733400"/>
            <a:ext cx="5205240" cy="24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Fully integrated receiver, transmitter and Synthesis capa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Five indipendent RF inputs (R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Six indipendent RF outputs (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2 GSM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4 WCDMA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Covers all banding combinations for three major regions (US, EU, Jap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543480" y="4184640"/>
            <a:ext cx="5419440" cy="2176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 flipV="1">
            <a:off x="2705040" y="2361960"/>
            <a:ext cx="1067040" cy="28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685600" y="2629080"/>
            <a:ext cx="1095480" cy="1571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28840" y="990720"/>
            <a:ext cx="22910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UMTS PA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7760" y="0"/>
            <a:ext cx="5340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401, U421, U440 Sky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55960" y="1357200"/>
            <a:ext cx="50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50 OHM Single-band, single-mode WCDMA PA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00160" y="3654360"/>
            <a:ext cx="5827680" cy="2119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1000" y="1878120"/>
            <a:ext cx="219816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uplex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ower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u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ow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r-stag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ntro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14520" y="2076120"/>
            <a:ext cx="4610160" cy="2857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714760" y="2371680"/>
            <a:ext cx="3457440" cy="2238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552760" y="2628720"/>
            <a:ext cx="3628800" cy="2609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676680" y="2914200"/>
            <a:ext cx="2533680" cy="180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90920" y="3180960"/>
            <a:ext cx="1800360" cy="1438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552920" y="3476520"/>
            <a:ext cx="1647720" cy="1733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42960" y="849240"/>
            <a:ext cx="659628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BaseBand Processor – TI OMAP3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1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61920" y="1563840"/>
            <a:ext cx="7472520" cy="38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The OMAP3420 meets the needs of Multimedia hand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Integrate an ARM Cortex-A8 superscalar processor – delivering up to 3x the performance of ARM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+ A8 RISC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2D/3D graphics acce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Integrated image signal processor, up to 5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Display driver up to WVGA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TV out support, Composite, S-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High-speed USB 2.0 On-The-G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OpenGL ES2.0 compliant – high level graphic re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500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POP archiceture for Memor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1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3840" y="979560"/>
            <a:ext cx="883116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54320" y="990720"/>
            <a:ext cx="422568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BB Processor extern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15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38720" y="1395360"/>
            <a:ext cx="56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4GByte Nand Flash (512MB) + 2GByte DDRAM (256MB)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Needs for replacement not to be pre-progamm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39840" y="4173480"/>
            <a:ext cx="6819840" cy="181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996800" y="2359080"/>
            <a:ext cx="3759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AM Address/ Data Bus from/to BB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lash Address/ Data Bus from/to BB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B Processor Dual Memo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193920" y="2550960"/>
            <a:ext cx="1851120" cy="2332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073320" y="2781360"/>
            <a:ext cx="1957320" cy="2806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268600" y="3043080"/>
            <a:ext cx="1284120" cy="2270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82720" y="990720"/>
            <a:ext cx="60771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Power Management IC TI CPCAP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24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61920" y="1563840"/>
            <a:ext cx="7472520" cy="38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The CPCAP is a custom power/audio management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2SPI Control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2SSI buses used to carry audi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10 bit ADC with 16 input cha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Voice CODEC 16 bit linear dual A/Ds and single channel D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16 bit linear Stero D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LiIon Battery charger with 20V tolerance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21 low drop out linear regu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32.768KHz real time clock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USB 2.0 HS with OTG and 12 pin SDR UL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Lighting contro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Power Cu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Mincho"/>
              </a:rPr>
              <a:t>4 Buck and 2Boost regu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1400" y="3038400"/>
            <a:ext cx="17956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57240"/>
            <a:ext cx="3744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Generic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2480" y="1114560"/>
            <a:ext cx="7728120" cy="55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Nam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est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 Facto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ds/Mod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SM 850, 900, 1800, 1900 + UMTS 2100, 1900, 850 + 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SM 850, 900, 1800, 1900 + UMTS 2100, 900 + G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Internal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Gb (512MB) Nand Flash + 2Gb (256MB) mobile DDRa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External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 S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2G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lay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7” WVGA (480x854) capacitive Touch screen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enna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GSM /UMTS + internal UMTS Diversity + GPS+ B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/SB Tim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k Time (in minutes): 390min GSM, 290min 3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Time (in hours): 350hrs GSM, 380hrs 3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Sync. 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ola Media 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a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ola Stores www.motorol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SW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D Net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a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y.Motorola.com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 rot="16200000">
            <a:off x="1877040" y="-692640"/>
            <a:ext cx="5362560" cy="8732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24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53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23920" y="898560"/>
            <a:ext cx="5729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LED driver with Ambient Light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384800" y="3265560"/>
            <a:ext cx="4570200" cy="3006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04720" y="1173240"/>
            <a:ext cx="747252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The LM3530 is a current mode boost converter. The LED current is adjustable from 0 to 29.5mA via I2C interface. Additional the device features two Ambient Light Sensor inputs, to provide programmable adjustment of the LED current with changes in ambient l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500KHz switch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1000:1 Dimming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External PWM Input for simple brightness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Internal Soft-Start limits Inrush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Up to 11 series LED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90% Effici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53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71720" y="898560"/>
            <a:ext cx="4881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EL -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751280" y="2616120"/>
            <a:ext cx="3998880" cy="3525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04720" y="1401840"/>
            <a:ext cx="747252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The HV861 is a dimmable low Noise Dual EL Lamp dri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The output voltage is at a nominal value of 90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The EL lamp will therfore see ±90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Adjustable output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Fade-in fade-out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Low audible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180Vpp output for higher bright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53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71720" y="898560"/>
            <a:ext cx="4881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Flash LED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4720" y="1173240"/>
            <a:ext cx="747252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The LM3554 is a 2MHz fixed frequency, current mode synchronous boost converter. The divice is a dual 600mA (1.2A total) constant current driver for high current white LED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Different operation modes: Torch, Flash, Indicator 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Programable Flash Time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I2C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Programmable current from 37.5mA to 1.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Open and Short LED Detection (self protec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627280" y="3613320"/>
            <a:ext cx="4915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71720" y="1012680"/>
            <a:ext cx="4881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Wifi , BT, FM single chip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56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6640" y="1643040"/>
            <a:ext cx="773784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I WiLink 6.0 device integrates an WiFi IEEE 802.11b/g, a BT 2.1+EDR receiver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FM Radio Receiver Module with RDS in one chip s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existence features enable simultaneous operation of each integrat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ed towork with OMAP proces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3157560"/>
            <a:ext cx="8593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911240" y="1012680"/>
            <a:ext cx="52437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Magnetometer / Electronic Com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80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1530360"/>
            <a:ext cx="45968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-axis geomagnetic measur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-monolithic Hall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de measurement range such as  ± 2000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ial Interface on I2C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AK8973N/B/S BLOCK DIAGRAM"/>
          <p:cNvPicPr/>
          <p:nvPr/>
        </p:nvPicPr>
        <p:blipFill>
          <a:blip r:embed="rId1"/>
          <a:stretch/>
        </p:blipFill>
        <p:spPr>
          <a:xfrm>
            <a:off x="828720" y="2962440"/>
            <a:ext cx="60008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335400" y="887400"/>
            <a:ext cx="27176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Acceler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80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8360" y="1176480"/>
            <a:ext cx="5708520" cy="21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-Axes Linear Accelerome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pacitiv measur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2C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/- 2g, +/- 4g and +/- 8g dynamically selectable full-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indipendent programmable interupt generators for free-fall and motion dete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D ori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bedded sel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01560" y="3832200"/>
            <a:ext cx="6915240" cy="244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60600" y="3784680"/>
            <a:ext cx="110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xes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1017720" y="4022280"/>
            <a:ext cx="457200" cy="266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743880" y="1239840"/>
            <a:ext cx="24001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581200" y="898560"/>
            <a:ext cx="42116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Charger and B_Plu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46600" y="3225960"/>
            <a:ext cx="1820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0820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rge 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8760" y="2128680"/>
            <a:ext cx="4835520" cy="4203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182560" y="4748040"/>
            <a:ext cx="38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0820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attery to B_Plus 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50160" y="4195800"/>
            <a:ext cx="26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0820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-sense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447640" y="4924440"/>
            <a:ext cx="3429000" cy="25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457000" y="4324320"/>
            <a:ext cx="3429000" cy="25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476080" y="3438360"/>
            <a:ext cx="3429000" cy="552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381040" y="3429000"/>
            <a:ext cx="3476520" cy="19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253960" y="2841480"/>
            <a:ext cx="1765080" cy="6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60440" y="2854440"/>
            <a:ext cx="6480" cy="2660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66920" y="5495760"/>
            <a:ext cx="1765440" cy="64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4840" y="1349280"/>
            <a:ext cx="78879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0820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harge process is controlled by TI CPCAP. Temperature conto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harege current cont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17760" y="0"/>
            <a:ext cx="3930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Solde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68640" y="966960"/>
            <a:ext cx="3298680" cy="24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  <a:ea typeface="MS Mincho"/>
              </a:rPr>
              <a:t>None on 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9880" y="1547640"/>
            <a:ext cx="507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the Main PCB CPU and Memory are placed as P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emory has not to be preprogram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lestone will not use underfill or underfilm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794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Significant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20920" y="38160"/>
            <a:ext cx="4191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2122200"/>
            <a:ext cx="847728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odification from GP-Gate HW to Next Test HW (I2C Box is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th Android products a new Testhardware will be implemen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imited amount of Power Supplies compared to MotoGate at the moment only HP66309D, HP66319D, HP66311B, HP66312A, Keithly 2304, Keithly 23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imited amount of Test Sets compared to MotoGate at the mo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8960 and CMU200</a:t>
            </a:r>
            <a:r>
              <a:rPr b="0" lang="de-DE" sz="1600" spc="-1" strike="noStrike">
                <a:solidFill>
                  <a:srgbClr val="80808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lease refer to</a:t>
            </a:r>
            <a:r>
              <a:rPr b="0" lang="de-DE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de-DE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ER SWT Equipment </a:t>
            </a:r>
            <a:r>
              <a:rPr b="0" lang="de-D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Standardization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64000" y="57240"/>
            <a:ext cx="3744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Generic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2480" y="1231920"/>
            <a:ext cx="772812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vity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 USB C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able avail. a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nline-shop.ams-f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tery Eliminato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P6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a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line-shop.ams-f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ex Flash File Typ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 SW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D Net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 Tool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que 5, JIS#00 screw driver, heat gun, Tweezers, Black Sti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air Fixtu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Lens Press, Keypad Press, EL panel mylar alignment and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 Press, Alignment Fixtur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available a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line-shop.ams-f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o update SW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up RSD Net connected, power up Moblie and connect via Mi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 cable, start Firmware update process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68400" y="1386000"/>
            <a:ext cx="7096320" cy="24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2240" y="1657440"/>
            <a:ext cx="1663560" cy="77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2240" y="2427120"/>
            <a:ext cx="1663560" cy="725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2240" y="3151080"/>
            <a:ext cx="1663560" cy="3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2240" y="3544920"/>
            <a:ext cx="1663560" cy="2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2240" y="3786120"/>
            <a:ext cx="1663560" cy="48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2240" y="4270320"/>
            <a:ext cx="1663560" cy="22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2240" y="4491000"/>
            <a:ext cx="1663560" cy="244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2240" y="4734000"/>
            <a:ext cx="1663560" cy="24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4975200"/>
            <a:ext cx="1663560" cy="120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8280" y="141444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Milest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3080" y="321300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Mem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3800" y="356868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280" y="4273560"/>
            <a:ext cx="65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Anten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9480" y="4514760"/>
            <a:ext cx="988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Connectiv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475632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Alert Speak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240" y="547200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Oth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" y="1897200"/>
            <a:ext cx="220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R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280" y="2681280"/>
            <a:ext cx="152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Baseband Chips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960" y="392112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Came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386000"/>
            <a:ext cx="878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378080"/>
            <a:ext cx="0" cy="47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636560"/>
            <a:ext cx="878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2280" y="2195640"/>
            <a:ext cx="709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760" y="2430360"/>
            <a:ext cx="87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8400" y="2668680"/>
            <a:ext cx="709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65160" y="2903400"/>
            <a:ext cx="709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520" y="3151080"/>
            <a:ext cx="878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920" y="3529080"/>
            <a:ext cx="87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6680" y="3792600"/>
            <a:ext cx="87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66960" y="4033800"/>
            <a:ext cx="707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4265640"/>
            <a:ext cx="879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040" y="4500720"/>
            <a:ext cx="879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040" y="4716360"/>
            <a:ext cx="878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3160" y="4979880"/>
            <a:ext cx="87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55800" y="5218200"/>
            <a:ext cx="709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2560" y="5452920"/>
            <a:ext cx="709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52560" y="5700600"/>
            <a:ext cx="709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49320" y="5935680"/>
            <a:ext cx="709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63720" y="1390680"/>
            <a:ext cx="0" cy="478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51600" y="1390680"/>
            <a:ext cx="0" cy="478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58240" y="1393920"/>
            <a:ext cx="0" cy="47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7240"/>
            <a:ext cx="3744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roduct vs.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63040" y="1401840"/>
            <a:ext cx="1372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No similar desig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38960" y="1822320"/>
            <a:ext cx="198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ceiver IC – TI PMB 57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37880" y="2457360"/>
            <a:ext cx="189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B Processor – OMAP3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36440" y="2673360"/>
            <a:ext cx="257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Management – TI CPCAP v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920" y="3222720"/>
            <a:ext cx="314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12MB Flash /265MB DDRam + ext. Micro 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0440" y="3552840"/>
            <a:ext cx="26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7” 480x854 capacitive Touc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46520" y="3825720"/>
            <a:ext cx="113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MP Au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39320" y="4289400"/>
            <a:ext cx="302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SM, UMTS, Diversity, GPS and BT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43280" y="4533840"/>
            <a:ext cx="139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Fi, BT, Micro U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37520" y="4759200"/>
            <a:ext cx="160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x10mm oval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39320" y="4984920"/>
            <a:ext cx="131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ronic 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40400" y="521964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ele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39680" y="4073400"/>
            <a:ext cx="129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 LED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28960" y="1449360"/>
            <a:ext cx="5048280" cy="4560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7680" y="1787400"/>
            <a:ext cx="18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CPU + Memory (POP) Sh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00840" y="17035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GPS Sh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55800" y="57240"/>
            <a:ext cx="5511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Main PCB Top Side Shie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053720" y="2200320"/>
            <a:ext cx="2895480" cy="1171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737320" y="2910960"/>
            <a:ext cx="1247760" cy="381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10560" y="279864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RF Sh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94440" y="1882440"/>
            <a:ext cx="1752480" cy="4474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9520" y="3978360"/>
            <a:ext cx="18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J5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Slider 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520" y="2940120"/>
            <a:ext cx="18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J5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Side Flex 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521000" y="3362400"/>
            <a:ext cx="1638000" cy="1209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216080" y="4362120"/>
            <a:ext cx="1333440" cy="485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83280" y="33796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S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11880" y="4151160"/>
            <a:ext cx="15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SIM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070520" y="3492360"/>
            <a:ext cx="3009600" cy="9050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165640" y="4273560"/>
            <a:ext cx="2152800" cy="2952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76480" y="1566720"/>
            <a:ext cx="5000760" cy="443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480000" y="1468440"/>
            <a:ext cx="2160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WIFI, BT, FM Sh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52280" y="4923000"/>
            <a:ext cx="13190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J5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QWERTY 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520" y="3070080"/>
            <a:ext cx="9396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RF Shiel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7200" y="0"/>
            <a:ext cx="6340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Main PCB Bottom Side Shie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11280" y="3228480"/>
            <a:ext cx="1990800" cy="352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32520" y="4807080"/>
            <a:ext cx="1285920" cy="2664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562640" y="1698480"/>
            <a:ext cx="1923840" cy="7718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9800" y="4032360"/>
            <a:ext cx="14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El Driver Sh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882800" y="4219200"/>
            <a:ext cx="1619280" cy="34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80000" y="2249640"/>
            <a:ext cx="2160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PM Sh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000760" y="2479320"/>
            <a:ext cx="1485720" cy="8571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60840" y="3741840"/>
            <a:ext cx="12582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J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55 Roman"/>
              </a:rPr>
              <a:t>Camera 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08800" y="3854520"/>
            <a:ext cx="799920" cy="66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52800" y="1743120"/>
            <a:ext cx="4383000" cy="395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36840" y="44280"/>
            <a:ext cx="4006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Main PCB Top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714680" y="2484000"/>
            <a:ext cx="2379600" cy="90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524040" y="1541160"/>
            <a:ext cx="455400" cy="6253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627440" y="1494000"/>
            <a:ext cx="344520" cy="9871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46800" y="3176640"/>
            <a:ext cx="1611360" cy="174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865840" y="2322000"/>
            <a:ext cx="1192320" cy="6159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61080" y="3862440"/>
            <a:ext cx="1325520" cy="270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846760" y="1522080"/>
            <a:ext cx="1239840" cy="1035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08600" y="4586400"/>
            <a:ext cx="1287360" cy="2505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27840" y="5091120"/>
            <a:ext cx="1068120" cy="660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714320" y="3608280"/>
            <a:ext cx="741240" cy="158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84080" y="20779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5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6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1920" y="1239840"/>
            <a:ext cx="173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59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GPS / Diversity 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5880" y="305928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X / TX 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4440" y="389736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G ext. L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3360" y="4611600"/>
            <a:ext cx="128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59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SM/ 3G 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1920" y="553572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5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GSM/ 3G to Co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54800" y="992160"/>
            <a:ext cx="118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6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GPS 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42080" y="992160"/>
            <a:ext cx="54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8480" y="1744560"/>
            <a:ext cx="138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15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CPU +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6680" y="341136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8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gneto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33520" y="1581120"/>
            <a:ext cx="4448160" cy="3959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706840" y="0"/>
            <a:ext cx="4167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Main PCB Bottom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9160" y="3735360"/>
            <a:ext cx="101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5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 Dri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492800" y="1441440"/>
            <a:ext cx="603000" cy="874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7080" y="4341960"/>
            <a:ext cx="13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8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ccelerome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86240" y="3328920"/>
            <a:ext cx="1822680" cy="684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533760" y="1355400"/>
            <a:ext cx="473040" cy="90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676520" y="2298600"/>
            <a:ext cx="1558800" cy="8841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733400" y="3088800"/>
            <a:ext cx="1463760" cy="569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723680" y="3079800"/>
            <a:ext cx="1987560" cy="550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733400" y="3936960"/>
            <a:ext cx="2911680" cy="7509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05640" y="2396880"/>
            <a:ext cx="1403280" cy="741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553080" y="4597560"/>
            <a:ext cx="641520" cy="64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1840" y="3141720"/>
            <a:ext cx="6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2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M 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59680" y="2122560"/>
            <a:ext cx="71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3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2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27600" y="938160"/>
            <a:ext cx="157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6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T, WiFi, 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89280" y="938160"/>
            <a:ext cx="157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6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WiFi - 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9160" y="1773360"/>
            <a:ext cx="1014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8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M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SM - 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640" y="2754360"/>
            <a:ext cx="111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440 / U4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- 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1533600"/>
            <a:ext cx="5164200" cy="3959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54920" y="3067200"/>
            <a:ext cx="873000" cy="3729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74800" y="44280"/>
            <a:ext cx="3949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Slider F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209680"/>
            <a:ext cx="55339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25960" y="3429000"/>
            <a:ext cx="9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 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88120" y="5183280"/>
            <a:ext cx="1339560" cy="46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978440" y="4221000"/>
            <a:ext cx="1720800" cy="9129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669680" y="4849560"/>
            <a:ext cx="1003320" cy="3222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707840" y="3954240"/>
            <a:ext cx="2089080" cy="10839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25960" y="3429000"/>
            <a:ext cx="9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 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0960" y="399096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3280" y="501012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uch Contr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3080" y="373392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pea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74080" y="4619520"/>
            <a:ext cx="5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403280" y="5210280"/>
            <a:ext cx="765360" cy="363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880" y="5572080"/>
            <a:ext cx="12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IR sensor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ace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1:58:59Z</dcterms:created>
  <dc:creator>wfab610</dc:creator>
  <dc:description/>
  <dc:language>en-US</dc:language>
  <cp:lastModifiedBy>wfmh125</cp:lastModifiedBy>
  <dcterms:modified xsi:type="dcterms:W3CDTF">2010-01-21T16:28:44Z</dcterms:modified>
  <cp:revision>361</cp:revision>
  <dc:subject/>
  <dc:title>Folie 1</dc:title>
</cp:coreProperties>
</file>